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74B-BDB6-43A3-B1B5-3F386AE3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C79-3ADA-4C62-BD1E-2065632B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A58-5E23-418E-A5FD-99120487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D59-ED25-4922-924B-C1B80711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C90-B9A8-44A4-B6EC-FAB96C87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5D8-E53F-4F8F-B6AB-7FFCEE9F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915-4E22-40A3-86FF-8A8EA3D1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328-D83C-485C-B5E2-0B6DABCC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A3F-2BE7-4E7B-A50F-F10F632F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B3F-9BCB-4962-BA51-3AE5B2CA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EF0-2B50-4037-BAE1-FAADB15B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2BB-9CD9-4BB8-A8A6-8517AD98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9C1C-109E-4121-93AF-D6DE7E089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80;&#1103;" TargetMode="External"/><Relationship Id="rId2" Type="http://schemas.openxmlformats.org/officeDocument/2006/relationships/hyperlink" Target="http://ru.wikipedia.org/wiki/&#1052;&#1086;&#1076;&#1077;&#1083;&#1100;&#1077;&#1088;" TargetMode="External"/><Relationship Id="rId3" Type="http://schemas.openxmlformats.org/officeDocument/2006/relationships/hyperlink" Target="http://ru.wikipedia.org/wiki/&#1059;&#1085;&#1080;&#1089;&#1077;&#1082;&#1089;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99;" TargetMode="External"/><Relationship Id="rId2" Type="http://schemas.openxmlformats.org/officeDocument/2006/relationships/hyperlink" Target="http://ru.wikipedia.org/wiki/&#1052;&#1086;&#1076;&#1072;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atangChe"/>
              </a:rPr>
              <a:t>Величайшие модел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хмедова Валерия, 31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одельер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 — это творец. Умение сделать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эскиз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, предложить интересные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етали одежды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аксессуаров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которых не было раньше – основа его работы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5e6c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еличайшие модельер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686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ьер Карде́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—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анцуз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одель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ервопроходец стиля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унисек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здал первую коллекцию мужской одежды. Запатентовал более 500 изобретений (цветные чулки и высокие сапоги, мини-сарафаны, фривольные галстуки «в цветочек», длинные пиджаки без воротника и узкие брюки на пуговицах). Первый занялся джинсовой одеждой для молодёжи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88000" y="4194000"/>
            <a:ext cx="181152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5e6c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ко Шане́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—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анцуз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модельер, самая важная фигура в истории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XX столетия. Шанель принесла в женскую моду приталенный жакет и маленькое чёрное плат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96000" y="3213000"/>
            <a:ext cx="2308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5e6c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гаро Эммануэ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модельер, для которого ключевым словом творчества и жизни являе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независим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. «Мои вещи заставляют женщину чувствовать себя свободной» - заявляет создатель одного из самых знаменитых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тулованных Домов моды Фран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372360" y="3860640"/>
            <a:ext cx="2031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5e6c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мамото Йоши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ер, родившийся в Токи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традиции, используемые и в женских коллекциях: костюмы и рубашки 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симметричными рукав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имоно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ротник отсутству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Вс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одели больших разме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этому их могут носить почти все. Доминирующи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вет у Йоши — черны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00720" y="4076640"/>
            <a:ext cx="1851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828720" y="1628280"/>
            <a:ext cx="568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5:53:33Z</dcterms:created>
  <dc:creator>Валерия</dc:creator>
  <dc:description/>
  <dc:language>en-US</dc:language>
  <cp:lastModifiedBy>Валерия</cp:lastModifiedBy>
  <dcterms:modified xsi:type="dcterms:W3CDTF">2011-12-10T18:21:49Z</dcterms:modified>
  <cp:revision>5</cp:revision>
  <dc:subject/>
  <dc:title>Величайшие модельеры</dc:title>
</cp:coreProperties>
</file>